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0896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1884-43AA-46B0-8698-A8C700241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mage up, pulse given 25 nm before top of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imag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is: we were able to shorten the MWNT tip in air without loosing it comple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ifficult, more difficult than in SEM where you can see what you are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bilities happen only on regions with high corr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6CD-8633-40F9-A58B-095C272F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A928-30D5-4FB0-9258-C1C2094C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624-4A79-4B48-AA35-7E5D69CC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4FE9-DC37-4B86-95FF-D69DF450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196-FC71-4B60-9673-E0A67F37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EAA-359A-46DD-ABA5-BC775C02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386-EEF7-49AA-9BA2-2F75687A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ABDE-D017-4A4C-958D-C6C787E3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85D-46AD-47BD-8C29-816670CA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A78-E68A-4A80-A760-0CBBDE8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43C-8B85-4D96-A955-318B475F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0FE-F736-423F-A456-E7D2288C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D51B-5C4A-4BE4-A490-530D7D5A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27162" r="0" b="49991"/>
          <a:stretch/>
        </p:blipFill>
        <p:spPr>
          <a:xfrm>
            <a:off x="347760" y="4489560"/>
            <a:ext cx="8447040" cy="1447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17880" y="94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>
            <a:lum contrast="18000"/>
          </a:blip>
          <a:srcRect l="1802" t="50515" r="71134" b="32648"/>
          <a:stretch/>
        </p:blipFill>
        <p:spPr>
          <a:xfrm>
            <a:off x="609480" y="907920"/>
            <a:ext cx="3962520" cy="184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56960" y="75564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 piezo step 277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09480" y="12891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720" y="533520"/>
            <a:ext cx="124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67280" y="1365120"/>
            <a:ext cx="2362320" cy="1968480"/>
            <a:chOff x="5867280" y="1365120"/>
            <a:chExt cx="2362320" cy="1968480"/>
          </a:xfrm>
        </p:grpSpPr>
        <p:pic>
          <p:nvPicPr>
            <p:cNvPr id="55" name="" descr=""/>
            <p:cNvPicPr/>
            <p:nvPr/>
          </p:nvPicPr>
          <p:blipFill>
            <a:blip r:embed="rId3"/>
            <a:srcRect l="37379" t="9122" r="46383" b="72841"/>
            <a:stretch/>
          </p:blipFill>
          <p:spPr>
            <a:xfrm>
              <a:off x="5867280" y="1365120"/>
              <a:ext cx="236232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6095880" y="281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98720" y="3657600"/>
            <a:ext cx="61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 if MWNT is short enough for ima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age thin niobium film, grain size around 10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5997600"/>
            <a:ext cx="840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bit too long: feedback instabilities are caused by bending response of MW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13040" y="6424560"/>
            <a:ext cx="538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f. Snow, E.S., Campbell, P.M., and Novak, J.P., APL 80 (2002), 2002-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0:20:09Z</dcterms:created>
  <dc:creator>Dionne</dc:creator>
  <dc:description/>
  <dc:language>en-US</dc:language>
  <cp:lastModifiedBy>Dionne</cp:lastModifiedBy>
  <dcterms:modified xsi:type="dcterms:W3CDTF">2005-01-24T10:27:31Z</dcterms:modified>
  <cp:revision>2</cp:revision>
  <dc:subject/>
  <dc:title>Slide 1</dc:title>
</cp:coreProperties>
</file>